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5.gif" ContentType="image/gif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099-076C-4F05-B157-7C572CFE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4CA-9680-42CA-879E-50AA82E8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F9C-4CB2-4207-9D87-46A6DF89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719-97A3-49C6-84FF-500FA163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6330-D729-4405-BAD6-7A832DBE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3251-772D-48A1-9AEC-5093B8C1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2BFA-4C4E-4D89-B1B7-7AD137D3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010E-3F1F-4000-8417-62091488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45F8-A883-43B6-AA6C-767184DE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E2BE-CE2A-46DB-8421-3E7DDA2C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55EC-62F6-4CD5-B129-9DC394A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D42-6933-4ABB-A5DE-5CB39B85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D58E-7794-4B26-8F5C-C09FF97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9D3B-F981-49DC-AAAA-AB44584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4B02-3D79-4419-8FAB-A2A528A4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6154-420C-4DB4-9F30-700A51FC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5E0E-8CA0-44B6-925B-600434F2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1EF-DB35-4017-AE58-34D834D9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65E-045B-4EAE-AD83-78315074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5B7-6CBE-42F3-8584-7CB6B4CD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76F-7B7D-4CE2-85CE-456C84D2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2F0-66A1-4985-9AB9-64F527A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54D-D47E-4B09-A61E-A623019D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FB0-3CF4-4E2B-B8D5-D2F2BF03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ztecchamber.com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0ECF-1D85-40C0-95C0-0A6102C9B1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1752840" cy="5364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6095880"/>
            <a:ext cx="143820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B916-0215-4123-85F3-E48E58A9F8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ztecchamber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mailto:chris@cornerstoneresults.com" TargetMode="External"/><Relationship Id="rId3" Type="http://schemas.openxmlformats.org/officeDocument/2006/relationships/hyperlink" Target="http://www.cornerstoneresults.com/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Filing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Literally &amp; Virtuall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 Chamber of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1752480" cy="53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6095880"/>
            <a:ext cx="1438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iteral Fil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537000" cy="273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85800" y="5029200"/>
            <a:ext cx="7591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Filing Software at Cornerstone Business Solutions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00600" y="2743200"/>
            <a:ext cx="30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ecret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mead Viewab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55308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Printer &amp; End Resu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rtual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drives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e cabi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documents can and should be inde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bout the Properties field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demons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nsistent and documented sche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41400" y="1828800"/>
            <a:ext cx="2813040" cy="3051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ernet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avorites and Folders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m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o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3021120"/>
            <a:ext cx="3504960" cy="240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rganize &amp; Sort IE 6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" descr="Add Favorite box"/>
          <p:cNvPicPr/>
          <p:nvPr/>
        </p:nvPicPr>
        <p:blipFill>
          <a:blip r:embed="rId1"/>
          <a:stretch/>
        </p:blipFill>
        <p:spPr>
          <a:xfrm>
            <a:off x="1143000" y="1905120"/>
            <a:ext cx="2743200" cy="1927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Favorites menu"/>
          <p:cNvPicPr/>
          <p:nvPr/>
        </p:nvPicPr>
        <p:blipFill>
          <a:blip r:embed="rId2"/>
          <a:stretch/>
        </p:blipFill>
        <p:spPr>
          <a:xfrm>
            <a:off x="4572000" y="4137120"/>
            <a:ext cx="2505240" cy="2378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43400" y="2057400"/>
            <a:ext cx="3962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phabetize Your Favo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your list of Favorites gets unruly, you can put it in alphabetical or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-click anywhere on the Favorites menu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menu that opens, click Sort by Name. See step 2 in the image below. Internet Explorer lists folders first (if you have them), and then individual Web pages in the main li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because you have to in order to meet complianc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because you can make money by acces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how someone else will use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, Test,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up and don’t FT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Fail To Impl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 Further Inform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811600" cy="2811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19320" y="2438280"/>
            <a:ext cx="3886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H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rstone Busines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05) 325-4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hris@cornerstoneresult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cornerstoneresult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Bother Fi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l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2811600" cy="2811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0033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Bother Filing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ing is done for two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ia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ing mo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pliance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business records that assist in understanding the financial picture of the business for purpos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x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with the CPA and 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ing the status of current business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ling to Make Mone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t More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2590920" cy="1784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00400" y="4114800"/>
            <a:ext cx="571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cuses on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cuses on Products &amp;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Focuses on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l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Other User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Your Filing Organization Scheme on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Yourself a Cabinet &amp; Sys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Deviate from the Syst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the “Radar O’Reilly and Max Klinger tra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teral Fil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94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Other User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ould you like to find things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logical and scalabl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, Test,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avoid the “Radar O’Reilly and Max Klinger tr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75360" y="3429000"/>
            <a:ext cx="19814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iteral Fil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2427480" cy="323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80880" y="5181480"/>
            <a:ext cx="845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Cabinet at Cornerstone Business Solution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Literal Fil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314520" cy="441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656160" cy="274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80880" y="5029200"/>
            <a:ext cx="44103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System at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rnerstone Business Solutions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7:50:31Z</dcterms:created>
  <dc:creator>Chris Hunter</dc:creator>
  <dc:description>Created for seminar on January 29 2004</dc:description>
  <dc:language>en-US</dc:language>
  <cp:lastModifiedBy>Chris Hunter</cp:lastModifiedBy>
  <dcterms:modified xsi:type="dcterms:W3CDTF">2004-10-17T00:56:37Z</dcterms:modified>
  <cp:revision>15</cp:revision>
  <dc:subject>Cornerstone Presentations</dc:subject>
  <dc:title>Filing  Literally &amp; Virtually</dc:title>
</cp:coreProperties>
</file>